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D73-0AFB-41FA-9ACC-19058303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140-FA8D-4F28-83EA-25717CAC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3D2-962D-4A80-B9E3-709BC3C8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402-5E20-4A7A-9A7E-C85F5B70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32D-ED95-45AE-B78D-A302795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35D-9914-4E81-8E1A-D9298DFE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D2E-7310-4197-93D3-5B0E4460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D82-9C9A-4EE1-8A88-362C496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6DD-D60A-4AA8-9577-E1BB95B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921-3F03-46F1-813F-C492204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7F9-84B6-48AA-86A5-CEB0F869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660-7FA8-45F2-B69E-681B9F5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A803-C51F-4AFE-B039-5344FFF38CA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21" descr="IMG_2578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위쪽 리본 11" descr=""/>
          <p:cNvPicPr/>
          <p:nvPr/>
        </p:nvPicPr>
        <p:blipFill>
          <a:blip r:embed="rId2"/>
          <a:stretch/>
        </p:blipFill>
        <p:spPr>
          <a:xfrm>
            <a:off x="1274760" y="480960"/>
            <a:ext cx="6594480" cy="1152720"/>
          </a:xfrm>
          <a:prstGeom prst="rect">
            <a:avLst/>
          </a:prstGeom>
          <a:ln w="0">
            <a:noFill/>
          </a:ln>
        </p:spPr>
      </p:pic>
      <p:sp>
        <p:nvSpPr>
          <p:cNvPr id="43" name="모서리가 둥근 직사각형 12"/>
          <p:cNvSpPr/>
          <p:nvPr/>
        </p:nvSpPr>
        <p:spPr>
          <a:xfrm>
            <a:off x="3751200" y="1700280"/>
            <a:ext cx="1619280" cy="7189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지  부  장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 형  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3"/>
          <p:cNvSpPr/>
          <p:nvPr/>
        </p:nvSpPr>
        <p:spPr>
          <a:xfrm>
            <a:off x="1582560" y="2708280"/>
            <a:ext cx="1621080" cy="53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선거 관리 위원장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 윤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모서리가 둥근 직사각형 14"/>
          <p:cNvSpPr/>
          <p:nvPr/>
        </p:nvSpPr>
        <p:spPr>
          <a:xfrm>
            <a:off x="2556000" y="3716280"/>
            <a:ext cx="1620720" cy="53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회계 감사 위원장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선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모서리가 둥근 직사각형 15"/>
          <p:cNvSpPr/>
          <p:nvPr/>
        </p:nvSpPr>
        <p:spPr>
          <a:xfrm>
            <a:off x="3755880" y="2708280"/>
            <a:ext cx="161928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부지부장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태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금 순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모서리가 둥근 직사각형 16"/>
          <p:cNvSpPr/>
          <p:nvPr/>
        </p:nvSpPr>
        <p:spPr>
          <a:xfrm>
            <a:off x="5940360" y="2708280"/>
            <a:ext cx="162108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대  의  원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금 동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박 찬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모서리가 둥근 직사각형 17"/>
          <p:cNvSpPr/>
          <p:nvPr/>
        </p:nvSpPr>
        <p:spPr>
          <a:xfrm>
            <a:off x="4967280" y="3716280"/>
            <a:ext cx="162072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사 무 국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오 재영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【</a:t>
            </a:r>
            <a:r>
              <a:rPr b="1" lang="ko-KR" sz="10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국장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 정옥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차장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모서리가 둥근 직사각형 18"/>
          <p:cNvSpPr/>
          <p:nvPr/>
        </p:nvSpPr>
        <p:spPr>
          <a:xfrm>
            <a:off x="971640" y="4797360"/>
            <a:ext cx="1979640" cy="1440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조직 관리국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 상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【</a:t>
            </a:r>
            <a:r>
              <a:rPr b="1" lang="ko-KR" sz="10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국장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지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호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광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 용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오 동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허 지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모서리가 둥근 직사각형 19"/>
          <p:cNvSpPr/>
          <p:nvPr/>
        </p:nvSpPr>
        <p:spPr>
          <a:xfrm>
            <a:off x="3576600" y="4797360"/>
            <a:ext cx="1979640" cy="1440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교육 홍보국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명순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【</a:t>
            </a:r>
            <a:r>
              <a:rPr b="1" lang="ko-KR" sz="10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국장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권 민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동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 성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강 완석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이 승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박 태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모서리가 둥근 직사각형 20"/>
          <p:cNvSpPr/>
          <p:nvPr/>
        </p:nvSpPr>
        <p:spPr>
          <a:xfrm>
            <a:off x="6192720" y="4797360"/>
            <a:ext cx="1979640" cy="1440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정책 교섭국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최 준식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【</a:t>
            </a:r>
            <a:r>
              <a:rPr b="1" lang="ko-KR" sz="1000" spc="-1" strike="noStrike">
                <a:solidFill>
                  <a:srgbClr val="000000"/>
                </a:solidFill>
                <a:latin typeface="문체부 훈민정음체"/>
                <a:ea typeface="문체부 훈민정음체"/>
              </a:rPr>
              <a:t>국장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용숙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보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상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김 경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 고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【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】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윤 정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9:43:48Z</dcterms:created>
  <dc:creator>JOOYONTECH</dc:creator>
  <dc:description/>
  <dc:language>en-US</dc:language>
  <cp:lastModifiedBy>SEC</cp:lastModifiedBy>
  <dcterms:modified xsi:type="dcterms:W3CDTF">2012-07-05T02:30:17Z</dcterms:modified>
  <cp:revision>58</cp:revision>
  <dc:subject/>
  <dc:title>사진 앨범</dc:title>
</cp:coreProperties>
</file>